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FB3-5593-4C9F-BD0B-FA62BDF2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053-49B1-48EC-9BB3-33258DBA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485-228C-4626-A3B0-75AA1673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37C-F17D-4D87-AA25-BEE7C1B3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26A-D2E8-4FA1-9DC4-566E7B6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73B-0B17-42E6-9739-280FBFE1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108-5670-45DB-9F4D-B435BD21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B98-1E6F-4F7B-A03A-94D6E2AB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246-C6DD-4E2E-9128-3ED79E8D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D1A-370F-492E-B055-8E613F8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2FE-C368-4DB1-A5AA-A387AE1B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186-8A5D-457E-AECC-056B21D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A7AA8-3B43-4A52-9826-52CCD7BC1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B18E9-C3A6-4997-9606-9C4E077D9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reen Economy and Why It Can Be Successf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Emmett Green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“Green Economy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that helps to protect the plan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ults in social equality for people a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jobs that contribute directly to reducing environmental risk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vide lower-skilled and lower-income workers with pathways out of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ist Van Jones called such jobs “green-collar jobs” in his recent best-selling book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Green Collar Econo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ths About the Gree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ing” of the economy inhibits wealth creation and employment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wealthy countries can afford to develop a green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ewable energy sources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expensive than fossi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6365880" y="5838840"/>
            <a:ext cx="226836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4"/>
          <p:cNvSpPr/>
          <p:nvPr/>
        </p:nvSpPr>
        <p:spPr>
          <a:xfrm flipV="1">
            <a:off x="6365880" y="4222440"/>
            <a:ext cx="0" cy="1608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778800" y="5227560"/>
            <a:ext cx="379080" cy="6033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900920" y="4906800"/>
            <a:ext cx="412920" cy="932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421320" y="391464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ssil 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7551720" y="390204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819840" y="5972040"/>
            <a:ext cx="15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Note: Not drawn to scale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5743440" y="4921200"/>
            <a:ext cx="6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nking the 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act,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dden co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conducting business as usu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3"/>
          <p:cNvSpPr/>
          <p:nvPr/>
        </p:nvSpPr>
        <p:spPr>
          <a:xfrm>
            <a:off x="6043680" y="5838840"/>
            <a:ext cx="227016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4"/>
          <p:cNvSpPr/>
          <p:nvPr/>
        </p:nvSpPr>
        <p:spPr>
          <a:xfrm flipV="1">
            <a:off x="6043680" y="4222440"/>
            <a:ext cx="0" cy="1608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458040" y="5227560"/>
            <a:ext cx="379440" cy="6033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7578720" y="4906800"/>
            <a:ext cx="412920" cy="932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6099120" y="391464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ssil 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7229520" y="390204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423040" y="428004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499080" y="5972040"/>
            <a:ext cx="15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Note: Not drawn to scale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458040" y="4906800"/>
            <a:ext cx="3794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 flipV="1">
            <a:off x="5425560" y="5095440"/>
            <a:ext cx="1032840" cy="372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4840200" y="54673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6453360" y="4589640"/>
            <a:ext cx="3790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8"/>
          <p:cNvCxnSpPr/>
          <p:nvPr/>
        </p:nvCxnSpPr>
        <p:spPr>
          <a:xfrm flipV="1">
            <a:off x="5423040" y="4777920"/>
            <a:ext cx="1031040" cy="372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0" name="TextBox 19"/>
          <p:cNvSpPr/>
          <p:nvPr/>
        </p:nvSpPr>
        <p:spPr>
          <a:xfrm>
            <a:off x="4836960" y="514980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/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6458040" y="4280040"/>
            <a:ext cx="3776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1"/>
          <p:cNvCxnSpPr/>
          <p:nvPr/>
        </p:nvCxnSpPr>
        <p:spPr>
          <a:xfrm flipV="1">
            <a:off x="5425560" y="4468320"/>
            <a:ext cx="1032840" cy="372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3" name="TextBox 22"/>
          <p:cNvSpPr/>
          <p:nvPr/>
        </p:nvSpPr>
        <p:spPr>
          <a:xfrm>
            <a:off x="4836960" y="48402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re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nking the Myth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43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wealthy countries can afford it”; “inhibits employment opportuni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: Braz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azil recycling recovery levels matching or exceed those in industrialized countr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ycling in Brazil generates a value of almost US $2 billion and avoids 10 million tons of greenhouse gas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,000 recycling workers (“pickers”) have been organized into cooperatives or associ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ir income is more than two times higher than th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individual waste pickers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lifting families out of poverty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light of the Brazilian pickers was depic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documentary movie “Waste Lan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157800" y="4394160"/>
            <a:ext cx="2175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 Green Economy is Economically S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48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nvests in “natural capital,” meaning that it uses the natural assets of ecosystems  (e.g. forests, lakes, wetlands) as a source of capital (e.g., the ability to produce goods and servi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bility of these natural assets is vital to public services such as recreation, food, and 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TempImage.tiff"/>
          <p:cNvPicPr/>
          <p:nvPr/>
        </p:nvPicPr>
        <p:blipFill>
          <a:blip r:embed="rId1"/>
          <a:stretch/>
        </p:blipFill>
        <p:spPr>
          <a:xfrm>
            <a:off x="4000680" y="4917960"/>
            <a:ext cx="4830480" cy="1687680"/>
          </a:xfrm>
          <a:prstGeom prst="rect">
            <a:avLst/>
          </a:prstGeom>
          <a:ln w="0">
            <a:noFill/>
          </a:ln>
        </p:spPr>
      </p:pic>
      <p:sp>
        <p:nvSpPr>
          <p:cNvPr id="80" name="Oval 4"/>
          <p:cNvSpPr/>
          <p:nvPr/>
        </p:nvSpPr>
        <p:spPr>
          <a:xfrm>
            <a:off x="4000680" y="4737240"/>
            <a:ext cx="1171440" cy="1033200"/>
          </a:xfrm>
          <a:prstGeom prst="ellipse">
            <a:avLst/>
          </a:prstGeom>
          <a:noFill/>
          <a:ln w="2844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4000680" y="5570640"/>
            <a:ext cx="1171440" cy="1035000"/>
          </a:xfrm>
          <a:prstGeom prst="ellipse">
            <a:avLst/>
          </a:prstGeom>
          <a:noFill/>
          <a:ln w="2844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the Green Economy is Economically Sound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more, tourism in a green economy can support local economic growth and reduce pover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tourism currently enjoys a 20% annual growth rate, about six times the industry-wide rate of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vel and tourism employ 8% of the global workforce, and the creation of jobs in the industry creates additional jobs in the related ec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us, the greening of the tourism sector will reduce the environmental threats to the industry, and as a result will increase local involvement and protect a valuable source of natural capi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milton, Tyler. “Venture Capitalists make business case for going green.”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oronto Star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9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cember 2009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owards a Green Economy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A Synthesis for Policy Makers) – United Nations Environment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gramme, 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Elusive Green Economy”-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he Atlanti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July/August 2009 http://www.theatlantic.com/magazine/archive/2009/07/the-elusive-green-economy/7554/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is Green Economics?” http://www.greeneconomics.net/what2f.ht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kipedia- “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he Green Collar Economy” http://en.wikipedia.org/wiki/The_Green_Collar_Econom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een For All- Website http://www.greenforall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asteland”- Google Images http://www.wastelandmovie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question is not whether a clean energy economy is our future, it’s where it will thriv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Barack Obama, shortly after assuming off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03:27Z</dcterms:created>
  <dc:creator>Emmett Greenberg</dc:creator>
  <dc:description/>
  <dc:language>en-US</dc:language>
  <cp:lastModifiedBy>Greengineers</cp:lastModifiedBy>
  <dcterms:modified xsi:type="dcterms:W3CDTF">2011-06-09T13:22:42Z</dcterms:modified>
  <cp:revision>34</cp:revision>
  <dc:subject/>
  <dc:title>Impact of the Green Collar Economy</dc:title>
</cp:coreProperties>
</file>